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22A-4485-4B7D-AA13-75169E7A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407-B2BD-4B21-AC2C-4C39AC52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0E7-6AC8-42F7-8CF1-82D55087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BCA-D8D6-41EF-9653-F5A53049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B0C9-AB74-41FA-9994-4C93F324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B3AF-7374-4643-86B9-B6E83B5D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9E66-5AC7-40D0-964B-C549BE88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0A7B-551D-4D43-B6B7-3399D262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8CED-91AA-4F4D-82A2-A987B95E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1CBF-A028-4C33-8A36-6953687C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EEAF-408B-45CB-BE1B-8E5C3D23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D9B2-465E-4250-9DFD-F6AD2625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8DD5-E3D9-4126-A9DB-480AA664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B802-BA85-46AD-83CE-57134C7B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CDDD-224C-4B04-AF75-ED25470C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888B-D209-446A-A395-E390C558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792D-F898-44AD-8CCC-E0552EE4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ABC-A6DA-40B4-A821-402B3992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E20-4176-4D5B-BECE-EAEDE281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02D8-4F4E-4A95-9C5C-812EB0CC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6DC7-4BB0-4589-8272-2FF96B6A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B74-3763-473B-AF9D-C578D7D8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D857-ABDE-4999-A5E0-27FA1D35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F3A4-3EAC-451D-9E68-99CCBF0C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0FA5-0516-4E40-9714-10F3D2BCB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5606-6F3B-4BA8-AF3B-95B25DEE2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0000" y="2421000"/>
            <a:ext cx="82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пы сред обитани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способленность к н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5589720"/>
            <a:ext cx="43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шакова Л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Брединская СОШ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 и приспособленность к ней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–по-раз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ровнее, чем на воздух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-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пательны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або развиты органы чув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льно развито обоняние, осяз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наземно-воздуш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744720" cy="201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3529080" cy="208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3600360" cy="223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643280" y="3860640"/>
            <a:ext cx="3384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Кто занимает водную среду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20000" y="1844640"/>
            <a:ext cx="1908000" cy="20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2017800" cy="201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84360" y="1844640"/>
            <a:ext cx="2016360" cy="2017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79280" y="1916280"/>
            <a:ext cx="19432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27746E-006 L -2.77778E-007 0.17826 E">
                                      <p:cBhvr>
                                        <p:cTn id="14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4.45087E-006 L -6.11111E-006 0.24115 E">
                                      <p:cBhvr>
                                        <p:cTn id="14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почвен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3628" t="21326" r="51755" b="32552"/>
          <a:stretch/>
        </p:blipFill>
        <p:spPr>
          <a:xfrm>
            <a:off x="179280" y="1916280"/>
            <a:ext cx="2024280" cy="2041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77080" y="1916280"/>
            <a:ext cx="2014560" cy="208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3280" y="1844640"/>
            <a:ext cx="2087640" cy="2089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340000" y="1916280"/>
            <a:ext cx="2087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4509E-006 L -0.62222 0.38798 E">
                                      <p:cBhvr>
                                        <p:cTn id="15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63785 0.35653 E">
                                      <p:cBhvr>
                                        <p:cTn id="15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Выберите организмы, живущие в водной среде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020000" y="1628640"/>
            <a:ext cx="180000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411280" y="1628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643280" y="1628640"/>
            <a:ext cx="1800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7884 L 0.004 0.41433 E">
                                      <p:cBhvr>
                                        <p:cTn id="16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44509E-006 L -5.55556E-007 0.30404 E">
                                      <p:cBhvr>
                                        <p:cTn id="16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ыберите правильное утверждение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Летучие мыши населяют наземно-воздуш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У всех водных животных орган передвижения-плав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Изменение температуры воздуха - это фактор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Дельфин и акула имеют внешнее сходство, потому что населяют одну и ту же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Большинство насекомых занимает вод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Пиявки занимают водную среду об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На растения оказывают влияние только факторы неживой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У  крота плоские передние лапы с большими когтями, так как он живет в поч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114-1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162864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Среда обитания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это все то, что окружает организм и прямо или косвенно на него влия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68360" y="47628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кторы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3240" y="3130560"/>
            <a:ext cx="29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450864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не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4360" y="32130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ятель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619280" y="1125360"/>
            <a:ext cx="165744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125360"/>
            <a:ext cx="0" cy="331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1125360"/>
            <a:ext cx="11527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24000" y="33336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еда об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70028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емно-воздуш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1844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19162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76360" y="98100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98100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43640" y="981000"/>
            <a:ext cx="1368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2837" t="34236" r="27556" b="-378"/>
          <a:stretch/>
        </p:blipFill>
        <p:spPr>
          <a:xfrm>
            <a:off x="3203640" y="234936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2987640" cy="364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35640" y="3213000"/>
            <a:ext cx="2808360" cy="364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Наземно-воздушная среда обитания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3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300720" y="1916280"/>
            <a:ext cx="2374920" cy="230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268360" y="4581360"/>
            <a:ext cx="2232360" cy="2089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788000" y="4581360"/>
            <a:ext cx="2303280" cy="2089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232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- не всег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значительно ме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нехватке воды- запас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топад, отлет птиц, смена шер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ивно передвигаются- бег, прыжки, по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одная среда обитания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376360" cy="2303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84720" y="1628640"/>
            <a:ext cx="2303640" cy="2233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63640" y="4221000"/>
            <a:ext cx="2232000" cy="237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427640" y="4221000"/>
            <a:ext cx="2376360" cy="2303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419640" y="1628640"/>
            <a:ext cx="216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обитания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-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 не 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 – меняется мень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– не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способления для пла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ния живут у поверх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отные живут повсемес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Примеры животных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2055960"/>
            <a:ext cx="3662280" cy="3519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2749" t="21029" r="50938" b="34889"/>
          <a:stretch/>
        </p:blipFill>
        <p:spPr>
          <a:xfrm>
            <a:off x="5003640" y="2060640"/>
            <a:ext cx="3529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3:38:18Z</dcterms:created>
  <dc:creator>User</dc:creator>
  <dc:description/>
  <dc:language>en-US</dc:language>
  <cp:lastModifiedBy>КарМаН</cp:lastModifiedBy>
  <dcterms:modified xsi:type="dcterms:W3CDTF">2011-11-02T13:20:23Z</dcterms:modified>
  <cp:revision>9</cp:revision>
  <dc:subject/>
  <dc:title>Слайд 1</dc:title>
</cp:coreProperties>
</file>